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5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F3F-EB92-41A3-BFDD-DB39252C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17B-861D-4B24-B14D-F8D8850D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2ED-643B-41D0-8638-46688595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0E4-81CF-4BB6-924E-208FBEE8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F5E-01F5-44DC-A87A-13C3F6DB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8AE-647D-42E5-85CF-EBAE735D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5AF-EE3B-4F4E-884F-23F6ECC6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072-F60C-476C-A653-70D1F457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166-EB4D-49B7-BF9A-CBF22730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642-1B5B-4B6E-B66F-81609228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B2E-7500-4C27-AAFF-67E85E9D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69C-4D20-4E24-A406-254B6889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1217-3586-4569-96FC-61E6A9A4E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WordArt 5" descr="纸袋"/>
          <p:cNvPicPr/>
          <p:nvPr/>
        </p:nvPicPr>
        <p:blipFill>
          <a:blip r:embed="rId1"/>
          <a:stretch/>
        </p:blipFill>
        <p:spPr>
          <a:xfrm>
            <a:off x="42840" y="2120760"/>
            <a:ext cx="9045720" cy="14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0" y="838080"/>
            <a:ext cx="914400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0" lang="zh-CN" sz="6600" spc="-1" strike="noStrike">
                <a:solidFill>
                  <a:srgbClr val="ff3300"/>
                </a:solidFill>
                <a:latin typeface="华文楷体"/>
                <a:ea typeface="华文楷体"/>
              </a:rPr>
              <a:t>全世界无产者联合起来，为获得自己的解放而斗争</a:t>
            </a:r>
            <a:r>
              <a:rPr b="0" lang="en-US" sz="6600" spc="-1" strike="noStrike">
                <a:solidFill>
                  <a:srgbClr val="ff3300"/>
                </a:solidFill>
                <a:latin typeface="华文楷体"/>
                <a:ea typeface="华文楷体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华文楷体"/>
                <a:ea typeface="华文楷体"/>
              </a:rPr>
              <a:t>      </a:t>
            </a:r>
            <a:r>
              <a:rPr b="0" lang="en-US" sz="4800" spc="-1" strike="noStrike">
                <a:solidFill>
                  <a:srgbClr val="ff3300"/>
                </a:solidFill>
                <a:latin typeface="华文楷体"/>
                <a:ea typeface="华文楷体"/>
              </a:rPr>
              <a:t>------</a:t>
            </a:r>
            <a:r>
              <a:rPr b="0" lang="en-US" sz="4800" spc="-1" strike="noStrike">
                <a:solidFill>
                  <a:srgbClr val="ff3300"/>
                </a:solidFill>
                <a:latin typeface="华文楷体"/>
                <a:ea typeface="华文楷体"/>
              </a:rPr>
              <a:t>《</a:t>
            </a:r>
            <a:r>
              <a:rPr b="0" lang="zh-CN" sz="4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共产党宣言</a:t>
            </a:r>
            <a:r>
              <a:rPr b="0" lang="en-US" sz="4800" spc="-1" strike="noStrike">
                <a:solidFill>
                  <a:srgbClr val="ff3300"/>
                </a:solidFill>
                <a:latin typeface="华文楷体"/>
                <a:ea typeface="华文楷体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自主学习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-293400" y="2203560"/>
            <a:ext cx="1277640" cy="2089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巴黎公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330200" y="83340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背　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330200" y="180504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时　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330200" y="277668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结　果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330200" y="421812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意　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330200" y="551340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纪　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708360" y="620640"/>
            <a:ext cx="5219640" cy="947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普法战争，法国战败，政府屈膝投降，镇压人民，巴黎人民起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3708360" y="182880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1871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年</a:t>
            </a: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3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708360" y="283860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失败。</a:t>
            </a:r>
            <a:r>
              <a:rPr b="0" lang="zh-CN" sz="2800" spc="-1" strike="noStrike">
                <a:solidFill>
                  <a:srgbClr val="ff0066"/>
                </a:solidFill>
                <a:latin typeface="华文楷体"/>
              </a:rPr>
              <a:t>“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五月流血周</a:t>
            </a:r>
            <a:r>
              <a:rPr b="0" lang="zh-CN" sz="2800" spc="-1" strike="noStrike">
                <a:solidFill>
                  <a:srgbClr val="ff0066"/>
                </a:solidFill>
                <a:latin typeface="华文楷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3708360" y="378936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是无产阶级建立政权的第一次伟大尝试，公社战士表现出的大无畏精神永远激励着后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3708360" y="536256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创作</a:t>
            </a: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《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国际歌</a:t>
            </a: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》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。词：欧仁</a:t>
            </a:r>
            <a:r>
              <a:rPr b="0" lang="en-US" sz="2800" spc="-1" strike="noStrike">
                <a:solidFill>
                  <a:srgbClr val="ff0066"/>
                </a:solidFill>
                <a:latin typeface="华文楷体"/>
              </a:rPr>
              <a:t>·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鲍狄埃。曲：狄盖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4572000" y="530064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7236000" y="530064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1776600" y="5943600"/>
            <a:ext cx="60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巴黎公社成立大会（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871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年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月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8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日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巴黎公社成立大会2"/>
          <p:cNvPicPr/>
          <p:nvPr/>
        </p:nvPicPr>
        <p:blipFill>
          <a:blip r:embed="rId1"/>
          <a:stretch/>
        </p:blipFill>
        <p:spPr>
          <a:xfrm>
            <a:off x="838080" y="201600"/>
            <a:ext cx="7772400" cy="56721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4"/>
          <p:cNvGrpSpPr/>
          <p:nvPr/>
        </p:nvGrpSpPr>
        <p:grpSpPr>
          <a:xfrm>
            <a:off x="-28800" y="0"/>
            <a:ext cx="1843560" cy="1371600"/>
            <a:chOff x="-28800" y="0"/>
            <a:chExt cx="1843560" cy="1371600"/>
          </a:xfrm>
        </p:grpSpPr>
        <p:pic>
          <p:nvPicPr>
            <p:cNvPr id="184" name="Picture 5" descr="ASHTRAY"/>
            <p:cNvPicPr/>
            <p:nvPr/>
          </p:nvPicPr>
          <p:blipFill>
            <a:blip r:embed="rId2"/>
            <a:stretch/>
          </p:blipFill>
          <p:spPr>
            <a:xfrm>
              <a:off x="33480" y="0"/>
              <a:ext cx="1638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6"/>
            <p:cNvSpPr/>
            <p:nvPr/>
          </p:nvSpPr>
          <p:spPr>
            <a:xfrm rot="20767800">
              <a:off x="0" y="685440"/>
              <a:ext cx="178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华文中宋"/>
                  <a:ea typeface="华文中宋"/>
                </a:rPr>
                <a:t>     </a:t>
              </a:r>
              <a:r>
                <a:rPr b="0" lang="zh-CN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小资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保卫公社的战斗（含图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五月流血周.avi" descr=""/>
          <p:cNvPicPr/>
          <p:nvPr/>
        </p:nvPicPr>
        <p:blipFill>
          <a:blip r:embed="rId2"/>
          <a:stretch/>
        </p:blipFill>
        <p:spPr>
          <a:xfrm>
            <a:off x="0" y="304920"/>
            <a:ext cx="3505320" cy="2666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3508200" y="258120"/>
            <a:ext cx="5461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月流血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巴黎公社墙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-27720" y="0"/>
            <a:ext cx="1917720" cy="1371600"/>
            <a:chOff x="-27720" y="0"/>
            <a:chExt cx="1917720" cy="1371600"/>
          </a:xfrm>
        </p:grpSpPr>
        <p:pic>
          <p:nvPicPr>
            <p:cNvPr id="191" name="Picture 3" descr="ASHTRAY"/>
            <p:cNvPicPr/>
            <p:nvPr/>
          </p:nvPicPr>
          <p:blipFill>
            <a:blip r:embed="rId1"/>
            <a:stretch/>
          </p:blipFill>
          <p:spPr>
            <a:xfrm>
              <a:off x="42840" y="0"/>
              <a:ext cx="17082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4"/>
            <p:cNvSpPr/>
            <p:nvPr/>
          </p:nvSpPr>
          <p:spPr>
            <a:xfrm rot="20767800">
              <a:off x="0" y="685440"/>
              <a:ext cx="18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问题与探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Rectangle 5"/>
          <p:cNvSpPr/>
          <p:nvPr/>
        </p:nvSpPr>
        <p:spPr>
          <a:xfrm>
            <a:off x="304920" y="1892160"/>
            <a:ext cx="8381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他们心地善良，关心劳动人民的疾苦深  入了解工人生活，乐于向劳苦大众奉献自己的一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他们都不惜舍弃原先优裕的个人生活条件，选择了为人类谋福利作为自己的职业，在逆境中坚定不移地为美好理想的实现而奋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勤奋好学，善于独立思考，汲取前人的思想精华，学识渊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重视社会实践，结合工人运动实践来创立科学理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447920" y="7621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ffcc"/>
                </a:solidFill>
                <a:latin typeface="Times New Roman"/>
              </a:rPr>
              <a:t>从马克思和恩格斯的身上我们学习到了什么</a:t>
            </a:r>
            <a:r>
              <a:rPr b="0" lang="en-US" sz="3200" spc="-1" strike="noStrike">
                <a:solidFill>
                  <a:srgbClr val="00ffcc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ffcc"/>
                </a:solidFill>
                <a:latin typeface="Times New Roman"/>
              </a:rPr>
              <a:t>对我们有什么启示</a:t>
            </a:r>
            <a:r>
              <a:rPr b="0" lang="en-US" sz="3200" spc="-1" strike="noStrike">
                <a:solidFill>
                  <a:srgbClr val="00ff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"/>
          <p:cNvSpPr/>
          <p:nvPr/>
        </p:nvSpPr>
        <p:spPr>
          <a:xfrm>
            <a:off x="395280" y="476280"/>
            <a:ext cx="6840720" cy="4753080"/>
          </a:xfrm>
          <a:prstGeom prst="cloudCallout">
            <a:avLst>
              <a:gd name="adj1" fmla="val -47657"/>
              <a:gd name="adj2" fmla="val 2788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马克思主义是什么时候传入中国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马克思主义诞生后对世界历史发展有什么影响？你能举出一些例子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5" descr="小博士"/>
          <p:cNvPicPr/>
          <p:nvPr/>
        </p:nvPicPr>
        <p:blipFill>
          <a:blip r:embed="rId1"/>
          <a:stretch/>
        </p:blipFill>
        <p:spPr>
          <a:xfrm>
            <a:off x="324000" y="466416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5867280" y="2133720"/>
            <a:ext cx="27352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新文化运动时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5796000" y="3213000"/>
            <a:ext cx="3097080" cy="162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巴黎公社的出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十月革命的胜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中国走上社会主义道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5257800" y="0"/>
            <a:ext cx="3886200" cy="2666520"/>
            <a:chOff x="5257800" y="0"/>
            <a:chExt cx="3886200" cy="2666520"/>
          </a:xfrm>
        </p:grpSpPr>
        <p:sp>
          <p:nvSpPr>
            <p:cNvPr id="200" name="laptop"/>
            <p:cNvSpPr/>
            <p:nvPr/>
          </p:nvSpPr>
          <p:spPr>
            <a:xfrm>
              <a:off x="5257800" y="0"/>
              <a:ext cx="3886200" cy="2666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"/>
            <p:cNvSpPr/>
            <p:nvPr/>
          </p:nvSpPr>
          <p:spPr>
            <a:xfrm>
              <a:off x="5944680" y="122760"/>
              <a:ext cx="256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巩固小结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Rectangle 5"/>
          <p:cNvSpPr/>
          <p:nvPr/>
        </p:nvSpPr>
        <p:spPr>
          <a:xfrm>
            <a:off x="1066680" y="4876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巴黎公社革命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7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产阶级推翻资产阶级政权，建立无产阶级专政的第一次伟大尝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684360" y="2602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国际工人运动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标志 着无产阶级已经作为一支独立的政治力量，登上了历史舞台。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1280" y="31417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《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共产党宣言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》</a:t>
            </a: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的发表，标志着马克思主义的诞生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8" descr="gif10"/>
          <p:cNvPicPr/>
          <p:nvPr/>
        </p:nvPicPr>
        <p:blipFill>
          <a:blip r:embed="rId1"/>
          <a:stretch/>
        </p:blipFill>
        <p:spPr>
          <a:xfrm>
            <a:off x="6858000" y="1219320"/>
            <a:ext cx="3556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73">
            <a:hlinkClick r:id="" action="ppaction://hlinkshowjump?jump=nextslide"/>
          </p:cNvPr>
          <p:cNvSpPr/>
          <p:nvPr/>
        </p:nvSpPr>
        <p:spPr>
          <a:xfrm>
            <a:off x="8244000" y="5877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cc99"/>
                </a:solidFill>
                <a:latin typeface="Times New Roman"/>
                <a:ea typeface="黑体"/>
              </a:rPr>
              <a:t>下一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WordArt 76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直击中招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8" name="Rectangle 77"/>
          <p:cNvSpPr/>
          <p:nvPr/>
        </p:nvSpPr>
        <p:spPr>
          <a:xfrm>
            <a:off x="900000" y="866880"/>
            <a:ext cx="72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世界上第一次群众性的、政治性的无产阶级革命运动是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英国宪章运动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法国大革命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巴黎公社革命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俄国十月革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5715000" y="1928880"/>
            <a:ext cx="6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>
            <a:hlinkClick r:id="" action="ppaction://hlinkshowjump?jump=nextslide"/>
          </p:cNvPr>
          <p:cNvSpPr/>
          <p:nvPr/>
        </p:nvSpPr>
        <p:spPr>
          <a:xfrm>
            <a:off x="8244000" y="5877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cc99"/>
                </a:solidFill>
                <a:latin typeface="Times New Roman"/>
                <a:ea typeface="黑体"/>
              </a:rPr>
              <a:t>下一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WordArt 3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直击中招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68360" y="1249920"/>
            <a:ext cx="8207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下列属于马克思和恩格斯共同的历史功绩的一项是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起草了英国宪章运动的政治纲领　 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创作了全世界广泛传唱的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国际歌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共同起草了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共产党宣言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　　 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领导建立了巴黎公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503520" y="18572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鲍狄埃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05120" y="1828800"/>
            <a:ext cx="3886200" cy="4419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9"/>
          <p:cNvSpPr/>
          <p:nvPr/>
        </p:nvSpPr>
        <p:spPr>
          <a:xfrm>
            <a:off x="2514600" y="4572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国际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国际歌.mp3" descr=""/>
          <p:cNvPicPr/>
          <p:nvPr/>
        </p:nvPicPr>
        <p:blipFill>
          <a:blip r:embed="rId3"/>
          <a:stretch/>
        </p:blipFill>
        <p:spPr>
          <a:xfrm>
            <a:off x="73152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>
            <a:hlinkClick r:id="" action="ppaction://hlinkshowjump?jump=nextslide"/>
          </p:cNvPr>
          <p:cNvSpPr/>
          <p:nvPr/>
        </p:nvSpPr>
        <p:spPr>
          <a:xfrm>
            <a:off x="8244000" y="5877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cc99"/>
                </a:solidFill>
                <a:latin typeface="Times New Roman"/>
                <a:ea typeface="黑体"/>
              </a:rPr>
              <a:t>下一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直击中招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00000" y="1672560"/>
            <a:ext cx="7559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世纪即将结束的时候，英国广播公司在全球范围举行了一次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千年思想家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网上民意评选，结果马克思的票数高居榜首。说明了当今世人对马克思主义思想的认同。请你指出马克思主义诞生的标志是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宪章运动爆发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巴黎公社的成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《共产党宣言》的发表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《国际歌》的诞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4646520" y="31431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3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直击中招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900000" y="1416960"/>
            <a:ext cx="72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让统治阶级在共产主义革命面前发抖吧。无产者在这个革命中失去的只是锁链。他们获得的将是整个世界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段话摘录于马克思、恩格斯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848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发表的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权利法案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人权宣言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共产党宣言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独立宣言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>
            <a:hlinkClick r:id="" action="ppaction://hlinkshowjump?jump=nextslide"/>
          </p:cNvPr>
          <p:cNvSpPr/>
          <p:nvPr/>
        </p:nvSpPr>
        <p:spPr>
          <a:xfrm>
            <a:off x="8244000" y="5877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cc99"/>
                </a:solidFill>
                <a:latin typeface="Times New Roman"/>
                <a:ea typeface="黑体"/>
              </a:rPr>
              <a:t>下一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5000760" y="27860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>
            <a:hlinkClick r:id="" action="ppaction://hlinkshowjump?jump=nextslide"/>
          </p:cNvPr>
          <p:cNvSpPr/>
          <p:nvPr/>
        </p:nvSpPr>
        <p:spPr>
          <a:xfrm>
            <a:off x="8244000" y="5877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cc99"/>
                </a:solidFill>
                <a:latin typeface="Times New Roman"/>
                <a:ea typeface="黑体"/>
              </a:rPr>
              <a:t>下一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WordArt 3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直击中招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900000" y="1553040"/>
            <a:ext cx="78152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这是一首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多年来唱遍全世界的歌曲，这是一首全世界无产阶级的战歌；这首歌就是欧仁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•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鲍狄埃创作的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(  )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A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《命运交响曲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B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《国际歌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C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《马赛曲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D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《黄河大合唱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7286760" y="2357280"/>
            <a:ext cx="6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>
            <a:hlinkClick r:id="" action="ppaction://hlinkshowjump?jump=nextslide"/>
          </p:cNvPr>
          <p:cNvSpPr/>
          <p:nvPr/>
        </p:nvSpPr>
        <p:spPr>
          <a:xfrm>
            <a:off x="8244000" y="5877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cc99"/>
                </a:solidFill>
                <a:latin typeface="Times New Roman"/>
                <a:ea typeface="黑体"/>
              </a:rPr>
              <a:t>下一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直击中招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900000" y="1751760"/>
            <a:ext cx="7559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.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有位革命领导这样评述《国际歌》的影响：在欧洲，只要你唱起《国际歌》，就可以找到自己的同志和朋友。这里的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同志和朋友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指的是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．无产阶级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．封建阶级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．资产阶级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．教会势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4574880" y="2857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>
            <a:hlinkClick r:id="" action="ppaction://hlinkshowjump?jump=nextslide"/>
          </p:cNvPr>
          <p:cNvSpPr/>
          <p:nvPr/>
        </p:nvSpPr>
        <p:spPr>
          <a:xfrm>
            <a:off x="8244000" y="5877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cc99"/>
                </a:solidFill>
                <a:latin typeface="Times New Roman"/>
                <a:ea typeface="黑体"/>
              </a:rPr>
              <a:t>下一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直击中招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900000" y="1553040"/>
            <a:ext cx="75596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7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英国宪章运动的口号是（　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建立民主共和国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要求取得普选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反对私有制社会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为争取经济权利而斗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6647040" y="17859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3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直击中招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900000" y="1078560"/>
            <a:ext cx="755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8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让统治阶级在共产主义革命面前发抖吧。无产者在这个革命中失去的只是锁链。他们获得的将是整个世界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请回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上述材料出自哪个纲领性文件？作者是谁？是为哪个组织起草的文件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该文件发表于哪一年？有何历史意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971640" y="364176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共产党宣言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；马克思、恩格斯；共产主义者同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042920" y="522612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4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；它的发表标志着马克思主义的诞生，推动了国际工人运动的开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169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自主学习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2" name="Text Box 415"/>
          <p:cNvSpPr/>
          <p:nvPr/>
        </p:nvSpPr>
        <p:spPr>
          <a:xfrm>
            <a:off x="-293400" y="1844640"/>
            <a:ext cx="1277640" cy="2879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英国宪章运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16"/>
          <p:cNvSpPr/>
          <p:nvPr/>
        </p:nvSpPr>
        <p:spPr>
          <a:xfrm>
            <a:off x="1330200" y="731880"/>
            <a:ext cx="2232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背　　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18"/>
          <p:cNvSpPr/>
          <p:nvPr/>
        </p:nvSpPr>
        <p:spPr>
          <a:xfrm>
            <a:off x="1330200" y="1703520"/>
            <a:ext cx="2232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时　　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19"/>
          <p:cNvSpPr/>
          <p:nvPr/>
        </p:nvSpPr>
        <p:spPr>
          <a:xfrm>
            <a:off x="1330200" y="2674800"/>
            <a:ext cx="2232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政治纲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20"/>
          <p:cNvSpPr/>
          <p:nvPr/>
        </p:nvSpPr>
        <p:spPr>
          <a:xfrm>
            <a:off x="1330200" y="3646440"/>
            <a:ext cx="2232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斗争目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21"/>
          <p:cNvSpPr/>
          <p:nvPr/>
        </p:nvSpPr>
        <p:spPr>
          <a:xfrm>
            <a:off x="1330200" y="5586480"/>
            <a:ext cx="2232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结　　果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22"/>
          <p:cNvSpPr/>
          <p:nvPr/>
        </p:nvSpPr>
        <p:spPr>
          <a:xfrm>
            <a:off x="3708360" y="51912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方正姚体"/>
              </a:rPr>
              <a:t>工业革命后，工人要求改善劳动和生活条件、提高政治地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23"/>
          <p:cNvSpPr/>
          <p:nvPr/>
        </p:nvSpPr>
        <p:spPr>
          <a:xfrm>
            <a:off x="3708360" y="172728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方正姚体"/>
              </a:rPr>
              <a:t>1836</a:t>
            </a:r>
            <a:r>
              <a:rPr b="0" lang="zh-CN" sz="2800" spc="-1" strike="noStrike">
                <a:solidFill>
                  <a:srgbClr val="cc00cc"/>
                </a:solidFill>
                <a:latin typeface="方正姚体"/>
              </a:rPr>
              <a:t>年－</a:t>
            </a:r>
            <a:r>
              <a:rPr b="0" lang="en-US" sz="2800" spc="-1" strike="noStrike">
                <a:solidFill>
                  <a:srgbClr val="cc00cc"/>
                </a:solidFill>
                <a:latin typeface="方正姚体"/>
              </a:rPr>
              <a:t>1848</a:t>
            </a:r>
            <a:r>
              <a:rPr b="0" lang="zh-CN" sz="2800" spc="-1" strike="noStrike">
                <a:solidFill>
                  <a:srgbClr val="cc00cc"/>
                </a:solidFill>
                <a:latin typeface="方正姚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24"/>
          <p:cNvSpPr/>
          <p:nvPr/>
        </p:nvSpPr>
        <p:spPr>
          <a:xfrm>
            <a:off x="3708360" y="267984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方正姚体"/>
              </a:rPr>
              <a:t>《</a:t>
            </a:r>
            <a:r>
              <a:rPr b="0" lang="zh-CN" sz="2800" spc="-1" strike="noStrike">
                <a:solidFill>
                  <a:srgbClr val="cc00cc"/>
                </a:solidFill>
                <a:latin typeface="方正姚体"/>
              </a:rPr>
              <a:t>人民宪章</a:t>
            </a:r>
            <a:r>
              <a:rPr b="0" lang="en-US" sz="2800" spc="-1" strike="noStrike">
                <a:solidFill>
                  <a:srgbClr val="cc00cc"/>
                </a:solidFill>
                <a:latin typeface="方正姚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25"/>
          <p:cNvSpPr/>
          <p:nvPr/>
        </p:nvSpPr>
        <p:spPr>
          <a:xfrm>
            <a:off x="3708360" y="368784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方正姚体"/>
              </a:rPr>
              <a:t>取得普选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26"/>
          <p:cNvSpPr/>
          <p:nvPr/>
        </p:nvSpPr>
        <p:spPr>
          <a:xfrm>
            <a:off x="3708360" y="540540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方正姚体"/>
              </a:rPr>
              <a:t>缺乏科学理论指导，工人运动的进一步发展受到影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27"/>
          <p:cNvSpPr/>
          <p:nvPr/>
        </p:nvSpPr>
        <p:spPr>
          <a:xfrm>
            <a:off x="1332000" y="4619520"/>
            <a:ext cx="2232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性　　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28"/>
          <p:cNvSpPr/>
          <p:nvPr/>
        </p:nvSpPr>
        <p:spPr>
          <a:xfrm>
            <a:off x="3708360" y="443700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方正姚体"/>
              </a:rPr>
              <a:t>世界上第一次群众性的、政治性的无产阶级革命运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无标题1"/>
          <p:cNvPicPr/>
          <p:nvPr/>
        </p:nvPicPr>
        <p:blipFill>
          <a:blip r:embed="rId1"/>
          <a:srcRect l="0" t="0" r="0" b="8725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278160" y="6400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宪章运动中的群众集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828880" y="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自主学习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-293400" y="1700280"/>
            <a:ext cx="1277640" cy="33843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马克思主义诞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330200" y="83340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背　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330200" y="180504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创立者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330200" y="277668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组　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30200" y="374796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标　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330200" y="5081760"/>
            <a:ext cx="1873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姚体"/>
              </a:rPr>
              <a:t>影　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708360" y="62064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国际工人运动遭受挫折，需要先进的理论作为指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708360" y="182880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马克思、恩格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708360" y="256392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马克思主义哲学、政治经济学、科学社会主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3708360" y="378936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1848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年，</a:t>
            </a: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《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共产党宣言</a:t>
            </a: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》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的发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708360" y="4508640"/>
            <a:ext cx="521964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《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共产党宣言</a:t>
            </a:r>
            <a:r>
              <a:rPr b="0" lang="en-US" sz="2800" spc="-1" strike="noStrike">
                <a:solidFill>
                  <a:srgbClr val="ff0066"/>
                </a:solidFill>
                <a:latin typeface="方正姚体"/>
              </a:rPr>
              <a:t>》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</a:rPr>
              <a:t>的发表标志着马克思主义的诞生。从此在科学理论的指导下，国际工人运动进入一个新的历史时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>
            <a:hlinkClick r:id="rId1" action="ppaction://hlinksldjump"/>
          </p:cNvPr>
          <p:cNvSpPr/>
          <p:nvPr/>
        </p:nvSpPr>
        <p:spPr>
          <a:xfrm>
            <a:off x="3708360" y="1773360"/>
            <a:ext cx="1150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5">
            <a:hlinkClick r:id="rId2" action="ppaction://hlinksldjump"/>
          </p:cNvPr>
          <p:cNvSpPr/>
          <p:nvPr/>
        </p:nvSpPr>
        <p:spPr>
          <a:xfrm>
            <a:off x="5148360" y="1844640"/>
            <a:ext cx="115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6">
            <a:hlinkClick r:id="rId3" action="ppaction://hlinksldjump"/>
          </p:cNvPr>
          <p:cNvSpPr/>
          <p:nvPr/>
        </p:nvSpPr>
        <p:spPr>
          <a:xfrm>
            <a:off x="5364000" y="3716280"/>
            <a:ext cx="22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3851280" y="4653000"/>
            <a:ext cx="4897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260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马克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066680" y="1268280"/>
            <a:ext cx="3416400" cy="4800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4495680" y="1125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卡尔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亨利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马克思，德国政治哲学家及社会理论家，马克思主义创始人。主要着作有《资本论》，《共产党宣言》等。 他是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无产阶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导师，是共产主义运动的带头人。一般信奉他理论的人被称为马克思主义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恩格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3" descr="恩格斯"/>
          <p:cNvPicPr/>
          <p:nvPr/>
        </p:nvPicPr>
        <p:blipFill>
          <a:blip r:embed="rId1"/>
          <a:stretch/>
        </p:blipFill>
        <p:spPr>
          <a:xfrm>
            <a:off x="457200" y="1676520"/>
            <a:ext cx="3322800" cy="4419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4327560" y="223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114800" y="1752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恩格斯出生在莱茵省的巴门市，父亲是一个保守的资本家，但是，恩格斯从小却愿意接触工人。中学还没有毕业，他就被迫到父亲在英国曼彻斯特的一家工厂工作。恩格斯没有想自己如何赚钱，而是利用这个机会了解工人的生活状况，这使他不但对工人们的贫困生活十分同情，而且产生了推翻资本主义制度、使劳苦大众获得解放的思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恩格斯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工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交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恩格斯同工人交谈"/>
          <p:cNvPicPr/>
          <p:nvPr/>
        </p:nvPicPr>
        <p:blipFill>
          <a:blip r:embed="rId1"/>
          <a:stretch/>
        </p:blipFill>
        <p:spPr>
          <a:xfrm>
            <a:off x="380880" y="1752480"/>
            <a:ext cx="3124440" cy="4718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2"/>
          <a:srcRect l="0" t="0" r="0" b="7351"/>
          <a:stretch/>
        </p:blipFill>
        <p:spPr>
          <a:xfrm>
            <a:off x="4876920" y="1828800"/>
            <a:ext cx="3200400" cy="456084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63" name="Rectangle 5"/>
          <p:cNvSpPr/>
          <p:nvPr/>
        </p:nvSpPr>
        <p:spPr>
          <a:xfrm>
            <a:off x="4724280" y="60948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恩格斯和工人在一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《共产党宣言》"/>
          <p:cNvPicPr/>
          <p:nvPr/>
        </p:nvPicPr>
        <p:blipFill>
          <a:blip r:embed="rId1"/>
          <a:stretch/>
        </p:blipFill>
        <p:spPr>
          <a:xfrm>
            <a:off x="611280" y="765000"/>
            <a:ext cx="361944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3"/>
          <p:cNvSpPr/>
          <p:nvPr/>
        </p:nvSpPr>
        <p:spPr>
          <a:xfrm>
            <a:off x="4356000" y="1197000"/>
            <a:ext cx="4537080" cy="4103640"/>
          </a:xfrm>
          <a:prstGeom prst="wedgeRoundRectCallout">
            <a:avLst>
              <a:gd name="adj1" fmla="val -57032"/>
              <a:gd name="adj2" fmla="val 6578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仿宋"/>
              </a:rPr>
              <a:t>让统治阶级在共产主义者面前发抖吧。无产者在这个革命中失去的只是锁链。他们获得的将是整个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共产党宣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0:19:04Z</dcterms:created>
  <dc:creator>ftl</dc:creator>
  <dc:description/>
  <dc:language>en-US</dc:language>
  <cp:lastModifiedBy>雨林木风</cp:lastModifiedBy>
  <dcterms:modified xsi:type="dcterms:W3CDTF">2011-11-15T15:37:11Z</dcterms:modified>
  <cp:revision>34</cp:revision>
  <dc:subject/>
  <dc:title>PowerPoint 演示文稿</dc:title>
</cp:coreProperties>
</file>